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1FA2-9A6E-4411-A966-215BE179B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D98B-3DCC-4699-9E1A-72262BF43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8D4B-02F7-42D9-80C5-46071CF91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8B49-969A-4AB9-A3BC-B8DBC6136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3C99-3986-481D-8E8D-89F743C06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B4292-C175-4F78-BDA4-E171BAB8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50202-DB2D-4190-901A-A133AF03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DF60F-670A-4E9B-BA69-EF29358F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D57F1-51E1-413D-9B5E-A74067D1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53C6F-278B-4DCD-9D34-5ADBC75E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9608-4611-4E9D-A8DC-31856FBCA8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C916D-EFC8-4AA5-B958-673B2319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13D3E-80E9-4D75-82B3-9236DB79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1A5C5-E831-4374-AD73-5D9EA0D8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D2D2F-B3DC-447C-A726-FDF44464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F3E6A-6847-4EEE-9A3F-3D84B727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46E88-1F7B-4A7E-8ED4-7FDDF6A0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FCFF0-63DB-4191-A023-C25A51D9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0CBF60-2278-4948-B44B-84AFE8EE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AD99A7-A16C-4B20-8F72-1B84AB09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0CAB4-AA8D-4614-9EE6-2A64306F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F45D-EB18-4662-84EB-8BC0FEE006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C9E073-17AA-4F75-8C74-97D81615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A40710-55BE-4304-83A6-2EE09F35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D15EA6-9DAB-4A59-AD38-B1D0A5E0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8C116C-2B28-4EC6-9756-282CF198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375AC4-4C5D-4AF4-A610-7A136FA2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5BCDB-4538-4768-8D16-A9AEB60D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5F477F-CCD5-4139-A40B-59E7A700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99C9B5-1D5E-4D10-8191-5C899E10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24B774-0457-45DD-92E6-9C365314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1F948-6D3C-4E9D-AA6A-DF591A3A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D5E9-19EF-45E9-9194-324826E91B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21EFCC-8CFE-45FC-B0FD-67E49A23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B8BDB-7B4F-4BD2-8EBF-21D8C968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AFB8A3-2639-403D-B80B-0E41F19C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F52419-E804-41C5-A09C-F5BCA271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88C305-86C9-4155-96E1-708D3DBE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8359B-FC42-458F-BFE0-620DD513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4CF5D5-CD8E-4D37-9DF5-CB9380ED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16959F-25DF-434F-A5F8-E9EC7D1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AB6F0-5351-4505-9D70-2A8A8B95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B0937-89C6-4469-B648-881DAAAD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4AA8-BDB2-4D60-AA03-B3F71EA92DE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975F45-648E-4A23-B89E-E496B80C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2834-F611-4176-B60F-94152D920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3CEA-B2FA-4F5A-A55C-37A78CEF5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225E-B5CC-4E73-8825-23F34A6EA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6B74-6009-413F-9EFB-DDD4837D063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3370-9DB0-4AC7-B518-CF5066523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5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B5C5-F0C3-48B1-95B8-FD59864592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7FF0-B45C-413C-A51F-6241D09210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1981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 Going with a Smartboar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90960" y="838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nect all four c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GB (VG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B to 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Speak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just the heigh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just the distance and mark on flo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nts will take turns in small groups connecting the three de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active Whiteboa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of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791320" y="83808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day we have learned about the different cables and how they are used to set up our projectors with the Interactive Whiteboards and our mobile de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steps did we find to be most difficult and how can we remember to complete them to have our projector working properl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cusing Question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I set up my projector and interactive whiteboard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str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ming Our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979640"/>
            <a:ext cx="731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day we will learn how to set up our projectors and interactive whiteboards by looking at their connections and the ports they are associated wit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ower C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provides power for our projector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 a cable that will be used every time you use your projecto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GB C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 referred to as a VGA c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two large blue ports on either e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nother cable that will be used all the ti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s from the computer to the projecto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ables the projector to project the image on your compu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have no image being projected this is the first cable to chec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USB C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cable connects your computer to the Interactive whiteboar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r whiteboard is a USB device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gets its power from your computer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Whiteboard Power C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ides power to the speakers, not the 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 the projec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 the ca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nect the ports for the four c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GB (VG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B to 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Speak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e Mazza</cp:lastModifiedBy>
  <dcterms:modified xsi:type="dcterms:W3CDTF">2008-09-18T16:29:05Z</dcterms:modified>
  <cp:revision>9</cp:revision>
  <dc:subject/>
  <dc:title>Get Going With iProject-Interactive Whiteboard-OOTB </dc:title>
</cp:coreProperties>
</file>