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0DADF-AF97-4630-8847-DAD61B4442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FFBCB-EF31-48BB-A303-B2ED4F8854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28CD5-9C50-4908-B3A8-FDFB03C15D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69774-F380-412B-9F6E-AC2A4D88F3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D45EC-9856-4434-8464-DF0C4872FD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12052-9AB3-45E2-A912-6D3137A00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50A7D-47C4-481C-9BD6-6C5DA8F2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11E6E-649A-4494-AD03-F70EC99C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D812F-36A4-4ABA-86D8-5C011B3E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65FD5-EC71-4689-B54E-3F7FF086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0EC69-C248-4179-9C8C-88C556A864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FFC33-06A6-4D9C-AE0B-7945560E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84E84-2EB3-43EA-A1D7-77BC2619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BF464-F8FF-4C09-A6C5-3810F522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43534-161D-4AF2-892A-E0A9DB54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C6036-7FB9-4B1B-B8C0-BAC13139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2932C-F71A-4B92-8F60-FA00F6DF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E5C62-4252-4B2A-B1AC-A1DACA70D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01F4A8-35DF-4260-8B70-448F07EB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349EAE-DB38-40E6-A0C2-FD85568A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CC6F74-D32E-4391-9404-666C483E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FF024-954E-4DF4-8D9E-AAA51D2C80B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16C62B-E476-41B5-896D-1257CC3F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552D67-30C0-4218-9DBE-0CE633F3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78916F-ED84-4E93-9858-7EC63943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3A25F5-7D56-4618-BB21-74E6CC8B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D132C9-075C-4B3B-917A-2BC97AD1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C5974F-28F1-47B5-B92D-0E3F3CCB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796AC3-F965-4757-A63C-B98AA910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FE7751-6DA3-4D33-979E-B0BE51301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3A30D7-9C22-4432-9DC6-0C818A569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40893F-BBB5-4880-9B53-E6A1556FC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2A376-83B0-48E8-9C04-5917179AB11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3E9DA8-B85B-45BF-8EF7-56DB2787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93B74F-AC00-4220-AEA4-C526E889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919D05-E04C-4798-B299-78A586E7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4A56BD-3558-4E60-83EA-2FEEF53A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F82F1E-E033-4020-B1A2-DBB5ACD6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C22C4F-560A-4B8D-A5C3-CD1D6015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F4F943-EB02-4740-B2FE-F3DD5E26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5AD1F8-312E-4216-B74B-281BCB89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D82BE1-4F0E-44B2-B32D-953E369A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39BC75-48B0-46D6-8426-D29AA3FF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6A4B3-10D7-44C9-B202-164E9B599E7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6E2173-133B-49D7-8AB4-8D56CA981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5DC5D-21EF-4BFA-B6DF-6CEBB8A3D7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E82B5-FB03-4B57-9E45-8E3824A5F1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B2667-F1E0-4DAE-96F0-A2C2910055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62240" y="6477120"/>
            <a:ext cx="7781760" cy="380880"/>
          </a:xfrm>
          <a:prstGeom prst="rect">
            <a:avLst/>
          </a:prstGeom>
          <a:solidFill>
            <a:srgbClr val="80b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958680" y="6477120"/>
            <a:ext cx="408240" cy="380880"/>
          </a:xfrm>
          <a:prstGeom prst="rtTriangle">
            <a:avLst/>
          </a:prstGeom>
          <a:solidFill>
            <a:srgbClr val="80b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spcBef>
                <a:spcPts val="1650"/>
              </a:spcBef>
              <a:buClr>
                <a:srgbClr val="6699cc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2" marL="1081080" indent="-227160">
              <a:spcBef>
                <a:spcPts val="165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3" marL="1363680" indent="-168120">
              <a:spcBef>
                <a:spcPts val="1650"/>
              </a:spcBef>
              <a:buClr>
                <a:srgbClr val="80b34d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4" marL="1701720" indent="-223920">
              <a:spcBef>
                <a:spcPts val="1650"/>
              </a:spcBef>
              <a:buClr>
                <a:srgbClr val="33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5" marL="1701720" indent="-223920">
              <a:spcBef>
                <a:spcPts val="1650"/>
              </a:spcBef>
              <a:buClr>
                <a:srgbClr val="6666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6" marL="1701720" indent="-223920">
              <a:spcBef>
                <a:spcPts val="1650"/>
              </a:spcBef>
              <a:buClr>
                <a:srgbClr val="6666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76040" y="6035760"/>
            <a:ext cx="878040" cy="630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040600" y="652896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C73F-D73B-41A5-8162-CE4272BAA886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3331" t="1231" r="34181" b="0"/>
          <a:stretch/>
        </p:blipFill>
        <p:spPr>
          <a:xfrm>
            <a:off x="0" y="0"/>
            <a:ext cx="5715000" cy="612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66760" y="5699160"/>
            <a:ext cx="1295280" cy="93024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1828440" y="6477120"/>
            <a:ext cx="7315560" cy="380880"/>
            <a:chOff x="1828440" y="6477120"/>
            <a:chExt cx="7315560" cy="380880"/>
          </a:xfrm>
        </p:grpSpPr>
        <p:sp>
          <p:nvSpPr>
            <p:cNvPr id="47" name=""/>
            <p:cNvSpPr/>
            <p:nvPr/>
          </p:nvSpPr>
          <p:spPr>
            <a:xfrm>
              <a:off x="2232000" y="6477120"/>
              <a:ext cx="6912000" cy="380880"/>
            </a:xfrm>
            <a:prstGeom prst="rect">
              <a:avLst/>
            </a:prstGeom>
            <a:solidFill>
              <a:srgbClr val="80b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1828080" y="6477120"/>
              <a:ext cx="407880" cy="380880"/>
            </a:xfrm>
            <a:prstGeom prst="rtTriangle">
              <a:avLst/>
            </a:prstGeom>
            <a:solidFill>
              <a:srgbClr val="80b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0" y="5181480"/>
            <a:ext cx="5791320" cy="30492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2895480" y="2590560"/>
            <a:ext cx="5486400" cy="30492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86400" y="304920"/>
            <a:ext cx="3657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F2E8-CEED-4CA8-9067-2B091F007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rcRect l="3331" t="1231" r="34181" b="0"/>
          <a:stretch/>
        </p:blipFill>
        <p:spPr>
          <a:xfrm>
            <a:off x="0" y="0"/>
            <a:ext cx="5715000" cy="6124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66760" y="5699160"/>
            <a:ext cx="1295280" cy="93024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1828440" y="6477120"/>
            <a:ext cx="7315560" cy="380880"/>
            <a:chOff x="1828440" y="6477120"/>
            <a:chExt cx="7315560" cy="380880"/>
          </a:xfrm>
        </p:grpSpPr>
        <p:sp>
          <p:nvSpPr>
            <p:cNvPr id="95" name=""/>
            <p:cNvSpPr/>
            <p:nvPr/>
          </p:nvSpPr>
          <p:spPr>
            <a:xfrm>
              <a:off x="2232000" y="6477120"/>
              <a:ext cx="69120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1828080" y="6477120"/>
              <a:ext cx="407880" cy="380880"/>
            </a:xfrm>
            <a:prstGeom prst="rtTriangl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0" y="5181480"/>
            <a:ext cx="5791320" cy="304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2895480" y="2590560"/>
            <a:ext cx="5486400" cy="304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1295280" y="434304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37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02BC-FEBF-43E2-BF2B-26DAE86A579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82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1741-2C58-4B9B-856E-E9DFE93B9B0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43000" y="19810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et Going with a Smartboard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90960" y="838080"/>
            <a:ext cx="3809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Work Tim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etting Starte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nect all four cab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wer to Project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GB (VGA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SB to Mobile Devi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wer to Speak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djust the heigh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djust the distance and mark on floo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ork Tim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rticipants will take turns in small groups connecting the three dev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ject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eractive Whiteboar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obile Devi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wer 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wer of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791320" y="838080"/>
            <a:ext cx="3809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hare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day we have learned about the different cables and how they are used to set up our projectors with the Interactive Whiteboards and our mobile de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steps did we find to be most difficult and how can we remember to complete them to have our projector working properly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har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ocusing Questions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can I set up my projector and interactive whiteboard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91320" y="8380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Instruction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raming Our Wor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69800" y="1979640"/>
            <a:ext cx="731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day we will learn how to set up our projectors and interactive whiteboards by looking at their connections and the ports they are associated wit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ower Cab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provides power for our projector.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 a cable that will be used every time you use your projector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GB Cab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times referred to as a VGA c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has two large blue ports on either en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another cable that will be used all the tim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nects from the computer to the projector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ables the projector to project the image on your comput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you have no image being projected this is the first cable to check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USB Cabl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cable connects your computer to the Interactive whiteboard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our whiteboard is a USB device.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gets its power from your computer.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Whiteboard Power C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vides power to the speakers, not the boar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uided Practi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ine the projecto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ine the car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nect the ports for the four cab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wer to Project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GB (VGA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SB to Mobile Devi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wer to Speak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ne Mazza</cp:lastModifiedBy>
  <dcterms:modified xsi:type="dcterms:W3CDTF">2008-09-18T16:29:05Z</dcterms:modified>
  <cp:revision>9</cp:revision>
  <dc:subject/>
  <dc:title>Get Going With iProject-Interactive Whiteboard-OOTB </dc:title>
</cp:coreProperties>
</file>