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8829-C170-4AC2-ACB6-315BEE687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B0B9-DC64-4843-AA57-7C70159EF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76D4-8F6A-48BB-9411-8B5F93B70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8BE0-D3C8-4048-B9E6-0B58EAF08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4DB1-EC1E-4DAB-88B4-2C0771D34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DFCEE-E08F-4CF4-B049-6C13B9D1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91376-43C6-4FC0-9DCD-A5BE24B3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681C2-8C33-4DE5-AF4B-67FA1B5B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972A8-7F53-4C0A-8EDB-5072DE4D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AD676-00D2-459A-9DEE-E68A2C58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7BEE-BDA6-4575-96AF-3AB8A2A250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EF89A-B53A-44BE-942F-3FE47CB7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4EDDE-EE43-4E07-AA9D-950912CE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7C7C5-623E-4BD7-BEE7-5C21ACC5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BBAD8-36C3-4A62-925A-1C2E9897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A71C7-EF0F-4B15-93E8-FD1B3E8C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8BB3D-CC40-46A8-86CA-4C14196A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A9C8E-A28E-4E6B-9586-F66F331A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030061-E4B7-4470-8650-A9330967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58D57B-6365-49B1-9507-0C578A2A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A8BFC1-7B47-41CD-92BC-9D9AB66D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2CA67-1A82-4A4B-A93D-BA29AE5AD2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D80381-B44D-44CF-969A-1337E63E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BA8D62-21ED-40D5-8E0A-03258527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DF736B-8ECF-4EFF-8C33-7375EB3C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00482C-5849-4D3D-BEFC-13B55E83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3B8892-8189-4733-9EAA-06350AB7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97A02F-7719-4B47-BB41-88FB0641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6C29AB-0200-49A5-9E2A-F76CEB82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1C3AC3-A8CC-4540-8392-3E3FA1B2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E553C5-7663-4294-85B8-1095078B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B63002-208F-406D-8144-B3CAAEC5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EC7E-F82F-4522-82AD-948B7DAD147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E489C6-9CA3-4AE6-AE1F-F7A6665D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709062-DE56-45DC-BDDD-222F113C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AE5684-76D5-4804-B1D4-F9CF88E8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3DB040-9F69-4350-B492-76B7D3E5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2197DF-9EED-4F36-816D-436FE319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EA772-4EB0-4EB3-BA50-D771A449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CBF6C5-951B-4A2A-8AE5-E50D70C8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3F8E4C-749C-4B8D-AE66-BB2F5E07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6097B3-06A5-4720-964D-814D859B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CB5726-D2C7-4D31-8426-96EFB921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DD7A-016C-4139-ACC3-3DBC6F6A990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C04FFF-DF68-4518-9070-72934970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1BD5-6848-49AB-8C2D-359B1FD42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F372-38F6-403F-9E3A-D280255A0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1377-48D8-4A4C-A071-AA74E75FF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62240" y="6477120"/>
            <a:ext cx="7781760" cy="380880"/>
          </a:xfrm>
          <a:prstGeom prst="rect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958680" y="6477120"/>
            <a:ext cx="408240" cy="380880"/>
          </a:xfrm>
          <a:prstGeom prst="rtTriangle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spcBef>
                <a:spcPts val="1650"/>
              </a:spcBef>
              <a:buClr>
                <a:srgbClr val="6699cc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081080" indent="-227160">
              <a:spcBef>
                <a:spcPts val="165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spcBef>
                <a:spcPts val="1650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4" marL="1701720" indent="-223920">
              <a:spcBef>
                <a:spcPts val="1650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5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6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6040" y="6035760"/>
            <a:ext cx="878040" cy="630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40600" y="65289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3B8C-13B4-4F01-BECA-1147560C44F6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47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D4B5-A339-4F85-97D7-3006A92F4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95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1295280" y="434304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7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A5E3-E9BF-40A3-97E1-A19A1E5310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82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9D04-43F2-4876-A90C-7F59B5BE83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1981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t Going with a Smartboard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90960" y="838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tting Start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nect all four c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Proj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GB (VG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B to Mobile De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Speak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just the heigh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just the distance and mark on flo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ticipants will take turns in small groups connecting the three de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j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active Whiteboar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bile De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wer 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wer of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791320" y="838080"/>
            <a:ext cx="3809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day we have learned about the different cables and how they are used to set up our projectors with the Interactive Whiteboards and our mobile de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steps did we find to be most difficult and how can we remember to complete them to have our projector working properl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cusing Questions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I set up my projector and interactive whiteboard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91320" y="838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Instruc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aming Our Wor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69800" y="1979640"/>
            <a:ext cx="731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day we will learn how to set up our projectors and interactive whiteboards by looking at their connections and the ports they are associated wit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ower C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provides power for our projector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 a cable that will be used every time you use your projecto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GB C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times referred to as a VGA c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has two large blue ports on either e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nother cable that will be used all the ti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s from the computer to the projecto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ables the projector to project the image on your compu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you have no image being projected this is the first cable to check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USB Cab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cable connects your computer to the Interactive whiteboar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r whiteboard is a USB device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gets its power from your computer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Whiteboard Power C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vides power to the speakers, not the 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d Prac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e the projec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e the ca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nect the ports for the four c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Proj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GB (VG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B to Mobile De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Speak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e Mazza</cp:lastModifiedBy>
  <dcterms:modified xsi:type="dcterms:W3CDTF">2008-09-18T16:29:05Z</dcterms:modified>
  <cp:revision>9</cp:revision>
  <dc:subject/>
  <dc:title>Get Going With iProject-Interactive Whiteboard-OOTB </dc:title>
</cp:coreProperties>
</file>