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5383-8AEA-4634-8D2E-D04814B5F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C1D3F-DE43-4357-BE17-856852D15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B748-D7C6-4BF1-8BED-8ACED2E70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E4E4C-1103-488B-871E-599054C7F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96A1-FD43-4A00-A8EE-D1EC07F7F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F353F-B901-462E-BD6A-F0F12B4F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E87ED-8483-4DBF-8178-F205628F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0289-29BB-446D-A5FE-1031B18C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D5410-D75B-412B-86F9-B4267E37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AAFE2-1B42-4E74-8EFE-F8549DAC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1174-E90C-4FA0-9623-8DE9290638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B9AD8-977A-49C7-9508-83B66D4A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93BCB-1A81-46DA-A3B8-D1EF971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7D35-610D-4BFF-9FD1-888F940C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8669C-4C70-4642-904F-36BB398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557D9-CA15-4FD5-8B7B-23EFDBB8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BF88B-DEFC-4550-A8F8-97F8C1EC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3EB4A-577C-4535-8E1E-0995D9D4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40577-17AE-4508-9A0E-A8370383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B62E9-D027-4A1F-908B-24904BC6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EBC8D5-80C6-4397-9656-455F1FC2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FFCF-C95A-49A3-9271-9073D976BC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4C90F-3657-4093-A7FE-08A99B18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41AFB-F697-4D83-BF66-AB88248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931617-1268-4470-8142-2542B416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36567-AC8F-4097-AAF6-DD1BF3B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B01949-BA4F-40E3-9337-9C78ABA3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CC1585-31B1-4697-A91C-7A6C9682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652FA-11A6-47F7-B1C3-D68461E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F1C1AC-4735-4710-81F9-8851BED3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A078B-8620-4397-BD5F-3AB4DD9B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7BB4A-4031-4854-A58C-7A34520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B76A-084F-4A3C-85EF-93D723B4F4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EF4FF-A492-4D5E-9BDB-FBFA1E5C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A6C07-C416-408E-9650-DFE9FD4A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50F40A-ADE5-411B-94E1-A9E1298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8EA319-8AB9-4A63-9F6F-53E8D6C3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898C8-AAF0-461E-A33B-B55E9697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D67F0A-CEF0-4809-B23A-95F3AFE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A44401-2B79-47F8-8D2A-54339AD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A3163B-CBC4-4690-947E-5A5CB240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646E03-0136-48BD-92BC-1C07F55A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48CAD-F0E6-4FD1-9174-1D35E698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B0E4-DEF6-45D2-8501-9D571E676D0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13A461-86CF-46C1-9E7B-A2871C47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BFB70-039E-40D1-BA7A-139280855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53A7-D360-4934-B291-BC1BDB7DF8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337F-AB46-4BC0-946E-AA9397C37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62240" y="6477120"/>
            <a:ext cx="7781760" cy="380880"/>
          </a:xfrm>
          <a:prstGeom prst="rect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958680" y="6477120"/>
            <a:ext cx="408240" cy="380880"/>
          </a:xfrm>
          <a:prstGeom prst="rtTriangle">
            <a:avLst/>
          </a:prstGeom>
          <a:solidFill>
            <a:srgbClr val="80b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384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384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1" marL="739800" indent="-282600">
              <a:spcBef>
                <a:spcPts val="1650"/>
              </a:spcBef>
              <a:buClr>
                <a:srgbClr val="6699cc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2" marL="1081080" indent="-227160">
              <a:spcBef>
                <a:spcPts val="1650"/>
              </a:spcBef>
              <a:buClr>
                <a:srgbClr val="ff99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3" marL="1363680" indent="-168120">
              <a:spcBef>
                <a:spcPts val="1650"/>
              </a:spcBef>
              <a:buClr>
                <a:srgbClr val="80b34d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4" marL="1701720" indent="-223920">
              <a:spcBef>
                <a:spcPts val="1650"/>
              </a:spcBef>
              <a:buClr>
                <a:srgbClr val="33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5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  <a:p>
            <a:pPr lvl="6" marL="1701720" indent="-223920">
              <a:spcBef>
                <a:spcPts val="1650"/>
              </a:spcBef>
              <a:buClr>
                <a:srgbClr val="6666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6040" y="6035760"/>
            <a:ext cx="878040" cy="630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8040600" y="65289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079-24AE-4D61-B6EE-D8B302E1B0A8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47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80b3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86400" y="3049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D091-1889-4DE9-8B0B-3A997CBC1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3331" t="1231" r="34181" b="0"/>
          <a:stretch/>
        </p:blipFill>
        <p:spPr>
          <a:xfrm>
            <a:off x="0" y="0"/>
            <a:ext cx="5715000" cy="6124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66760" y="5699160"/>
            <a:ext cx="1295280" cy="93024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1828440" y="6477120"/>
            <a:ext cx="7315560" cy="380880"/>
            <a:chOff x="1828440" y="6477120"/>
            <a:chExt cx="7315560" cy="380880"/>
          </a:xfrm>
        </p:grpSpPr>
        <p:sp>
          <p:nvSpPr>
            <p:cNvPr id="95" name=""/>
            <p:cNvSpPr/>
            <p:nvPr/>
          </p:nvSpPr>
          <p:spPr>
            <a:xfrm>
              <a:off x="2232000" y="6477120"/>
              <a:ext cx="69120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828080" y="6477120"/>
              <a:ext cx="407880" cy="380880"/>
            </a:xfrm>
            <a:prstGeom prst="rtTriangl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0" y="5181480"/>
            <a:ext cx="579132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895480" y="2590560"/>
            <a:ext cx="54864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title"/>
          </p:nvPr>
        </p:nvSpPr>
        <p:spPr>
          <a:xfrm>
            <a:off x="1295280" y="4343040"/>
            <a:ext cx="784872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E435-4017-48F1-923D-7FA67BB7F0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4E4C-5AFB-42BB-8802-67556BCF3A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1981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 Going with a Smartboar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9096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all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heigh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just the distance and mark on flo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will take turns in small groups connecting the three de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active Whiteboar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 of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791320" y="8380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day we have learned about the different cables and how they are used to set up our projectors with the Interactive Whiteboards and our mobile de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steps did we find to be most difficult and how can we remember to complete them to have our projector working properl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set up my projector and interactive whiteboar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set up our projectors and interactive whiteboards by looking at their connections and the ports they are associated wit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ower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provides power for our projecto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 cable that will be used every time you use your proj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GB C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referred to as a VGA c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has two large blue ports on either e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another cable that will be used all the ti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s from the computer to the projecto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ables the projector to project the image on your compu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you have no image being projected this is the first cable to chec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SB Cab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cable connects your computer to the Interactive whiteboar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whiteboard is a USB devic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gets its power from your computer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teboard Power C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s power to the speakers, not the 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project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ine the ca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nect the ports for the four cab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Project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GB (VG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B to Mobile Dev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wer to Speak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8T16:29:05Z</dcterms:modified>
  <cp:revision>9</cp:revision>
  <dc:subject/>
  <dc:title>Get Going With iProject-Interactive Whiteboard-OOTB </dc:title>
</cp:coreProperties>
</file>