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C1B-823E-4D17-A5A9-58B9C165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76A-C77F-415C-B590-BEBDF079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B47-DB8E-43B3-B6F5-7DA21355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1A5-9291-4864-935B-21F284C7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F124-D4AE-4C8C-B92D-872D69EB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E143-C683-4EBA-A6B7-677CE699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5BD3-14AD-4FD4-BB20-873B3772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3AAE-3B7F-4E6D-8AD2-3411D5AA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2D3B-1D74-4F56-AA5B-47CA3F7A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7D6E-0514-4D37-B388-FA7313FC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6D76-9A5D-4478-86B4-A46DCBD9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24A-8BD1-4130-95AB-5306F844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AC6C-5434-463D-9825-8C2779A9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A3E1-0202-49C0-A18F-3C95DB8E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B37D-2768-4D8A-83F1-42401DFB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4DA3-252E-4AC3-AD00-797C0CBF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2149-A804-4E8E-9061-46F8F692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AB6-F4E8-40BC-BB6C-159F8421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56A-2EA7-47AE-86FB-F4E71D9D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8EB-42F3-491A-9AB4-A8BA2A3E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738-0732-47D7-80EF-B0E3FE13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C55-677D-4A8B-AA3E-C09BE5DA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DE1-7384-47D9-801D-4D8F8A9D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868-E1DE-46E5-8A53-7615E5AD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5D1F-F129-48C5-A846-2E20BA89E0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951F-6F2A-4DDE-BBA6-C64C87F78A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marttech.com/" TargetMode="External"/><Relationship Id="rId2" Type="http://schemas.openxmlformats.org/officeDocument/2006/relationships/hyperlink" Target="http://www.smarttech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2.smarttech.com/st/en-US/Products/SMART+Boards/Front+Projection/600+Series/Video+library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86400" y="380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martboard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055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active Tools to Enhance 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n Notebook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Sh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fi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culat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Capt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as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n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four tools are unavailable because they need to hooked up to a board, however, you can still create lessons and add these once you connect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other tools which are usefu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xt Box – this allows you to typ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apes – This allows you to insert shap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es – This allows you to insert lines or ray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91320" y="9144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gin to create a minimum six page lesson using Notebook software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the tools taught in this lesson in the first few sli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nts are working independently to create their less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se lessons will be projected during the final sess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ssion, you were shown some tools to use that are part of NoteBook softwa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ools did you like to u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ools do you think you will be using most ofte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cusing Question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I use Interactive Tools to support and enhance my instruc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str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ming Our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979640"/>
            <a:ext cx="731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day we will learn how to use our Smart NoteBook Softwar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must be installed.  You can access the software at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mart Technologies, Inc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Web site.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’s watch this short video about the Interactive Whiteboard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ce a few thing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re the instructor stand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he interchanges the pen and eraser tool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he uses the Interactive Whiteboard rather then his comput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y video from the 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mart Technologies, Inc. Educati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’s take a look at some of the tools that are installed in Note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ce the four op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Sh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fi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culat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can we use these tools in our instruc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amera Screen shot Ic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irst button selects only what you assign it to select. It is automatically captured and placed on a new pag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cond button selects a FULL screen.  Not just the page but a complete full screen. It automatically was captured and place in a new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third button selects only the page you are working on.  It captures it and automatically places it in a new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9999" t="10000" r="68752" b="78006"/>
          <a:stretch/>
        </p:blipFill>
        <p:spPr>
          <a:xfrm>
            <a:off x="6934320" y="15228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are there three capture tool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would you need the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ras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options of levels of thicknes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le to erase on pe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rase on pages with a screen sho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ubject area teacher can really benefit from this time saving tool, as he/she might teach multiple classes the same lesson.  Would only need to write your focus of the day once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e Mazza</cp:lastModifiedBy>
  <dcterms:modified xsi:type="dcterms:W3CDTF">2008-09-19T16:31:15Z</dcterms:modified>
  <cp:revision>13</cp:revision>
  <dc:subject/>
  <dc:title>Interactive Tools to Enhance Instruction </dc:title>
</cp:coreProperties>
</file>