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32A-36DD-4940-86F2-29AEC166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4D5A-A8F4-41F4-8391-0F814AF3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32C-671B-400B-97C9-A709705A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F6A-F7FA-40E1-B77D-7D23879C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0296-D7FE-47D8-AEDE-4ED06787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03AA-3414-4769-8E8A-834D38EC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3E7-7B65-4662-AEDA-3044BA0F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1B10-19D2-4EB0-9468-2A3C365F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065E-7A42-4B95-9303-55FAD773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18EE-AE47-44E9-B645-EC38DF14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749F-6358-4AD3-A311-A9A15812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3A9-502B-4386-A358-7D5627C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0F11-4585-480A-A276-F139A2BC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19CF-264C-4515-AA9A-909CA63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7FE8-9A54-4126-B973-6B351C6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D249-7941-46DC-B933-4BED5690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6D7A-AD1F-4530-9EFD-9A2A67A7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9E7-822B-47BC-829A-E90268B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FAD-6067-4D8F-BAAA-372AB1AA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F5C-3466-4127-869A-8DAD2BB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239-B482-4A10-A1CB-7A8F6F68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C9C-696D-4DD2-93CD-F9AD91CF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335-6A58-43FD-BEA7-6C5BB5D5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60CF-8B10-4B1C-ADC3-6D618947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1D9-5728-48C9-BE23-BC6E480B97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5BA0-252E-4B34-95E2-413D16FFB6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marttech.com/" TargetMode="External"/><Relationship Id="rId2" Type="http://schemas.openxmlformats.org/officeDocument/2006/relationships/hyperlink" Target="http://www.smarttech.com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2.smarttech.com/st/en-US/Products/SMART+Boards/Front+Projection/600+Series/Video+library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1468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86400" y="3808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martboard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1055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active Tools to Enhance I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n Notebook 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Capt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as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uided Pract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four tools are unavailable because they need to hooked up to a board, however, you can still create lessons and add these once you connect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ther tools which are useful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ext Box – this allows you to typ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pes – This allows you to insert shap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nes – This allows you to insert lines or ray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91320" y="9144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tting Start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gin to create a minimum six page lesson using Notebook softwar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the tools taught in this lesson in the first few slid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ork Ti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rticipants are working independently to create their less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se lessons will be projected during the final sess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43828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this session, you were shown some tools to use that are part of NoteBook softwa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id you like to u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ools do you think you will be using most ofte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ha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cusing Questions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an I use Interactive Tools to support and enhance my instru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91320" y="83808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str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aming Our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979640"/>
            <a:ext cx="7313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day we will learn how to use our Smart NoteBook Soft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must be installed.  You can access the software at the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eb site.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watch this short video about the Interactive Whiteboard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a few thing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re the instructor stand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interchanges the pen and eraser tool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he uses the Interactive Whiteboard rather then his comput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y video from the </a:t>
            </a:r>
            <a:r>
              <a:rPr b="0" lang="en-US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Smart Technologies, Inc. Educatio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t’s take a look at some of the tools that are installed in Note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ce the four op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creen Sh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ligh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fi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culato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w can we use these tools in our instructio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792468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amera Screen shot I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irst button selects only what you assign it to select. It is automatically captured and placed on a new pag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cond button selects a FULL screen.  Not just the page but a complete full screen. It automatically was captured and place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third button selects only the page you are working on.  It captures it and automatically places it in a new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9999" t="10000" r="68752" b="78006"/>
          <a:stretch/>
        </p:blipFill>
        <p:spPr>
          <a:xfrm>
            <a:off x="6934320" y="1522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are there three capture too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would you need these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each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ras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options of levels of thicknes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le to erase on pe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ble to erase on pages with a screen sho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bject area teacher can really benefit from this time saving tool, as he/she might teach multiple classes the same lesson.  Would only need to write your focus of the day once 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ine Mazza</cp:lastModifiedBy>
  <dcterms:modified xsi:type="dcterms:W3CDTF">2008-09-19T16:31:15Z</dcterms:modified>
  <cp:revision>13</cp:revision>
  <dc:subject/>
  <dc:title>Interactive Tools to Enhance Instruction </dc:title>
</cp:coreProperties>
</file>