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A06-4042-44D0-9943-31189F6B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172-7589-4B0F-8BDD-C701C3A6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72D-89B6-4496-8101-8E33A063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F68-7B5B-44A6-AEA6-E959CF3E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C86D-7D62-4018-9D5A-7FF86AAE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55A2-8FE4-4A9C-AA04-C89374EC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B70B-89B4-402E-B812-52D7467C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CF9B-8273-4A62-8B0E-C85E3216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176B-A082-4B86-B01F-D8BC13C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8455-7C52-4AC1-B354-50613103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0D85-EE91-4465-8A09-850441D2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0E7-D4BF-4720-8C74-F72F54DB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32C2-2A11-4F42-A274-377D7CD4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06B2-ABE8-47E9-A781-DB7D254A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577E-0EB2-4306-9953-05BC6501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4740-1068-419B-BA29-68145FC5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9D81-8121-4EB0-9EE2-A1ECE6ED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AD5-1F34-4B45-B0FD-FC016FB2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91F-08E8-4C0B-BB46-E6D9A899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4A0-9F8C-4018-9C4B-1DC5BA12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43B-3EC7-4987-A33E-F22EAEB5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CF4-2C59-4692-9D3C-73ED7022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19D-F96A-4514-B785-9A35080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85F-1DCC-4065-94AA-98F3F1F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6D09-283F-4032-9712-835DDEEEF5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C021-AD4D-48CE-9EA5-512FEB8E19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arttech.com/" TargetMode="External"/><Relationship Id="rId2" Type="http://schemas.openxmlformats.org/officeDocument/2006/relationships/hyperlink" Target="http://www.smarttech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2.smarttech.com/st/en-US/Products/SMART+Boards/Front+Projection/600+Series/Video+library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86400" y="380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martboard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active Tools to Enhance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 Notebook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Cap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as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four tools are unavailable because they need to hooked up to a board, however, you can still create lessons and add these once you connect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ther tools which are usefu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xt Box – this allows you to typ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pes – This allows you to insert shap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es – This allows you to insert lines or ray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91320" y="9144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gin to create a minimum six page lesson using Notebook softwar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the tools taught in this lesson in the first few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are working independently to create their less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se lessons will be projected during the final se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ssion, you were shown some tools to use that are part of NoteBook softwa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id you like to u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o you think you will be using most oft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use Interactive Tools to support and enhance my instru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use our Smart NoteBook Softwar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must be installed.  You can access the software at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Web site.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watch this short video about the Interactive Whiteboard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a few thing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re the instructor stand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interchanges the pen and eraser tool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uses the Interactive Whiteboard rather then his comput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y video from the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Educati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take a look at some of the tools that are installed in Note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the four op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can we use these tools in our instruc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mera Screen shot Ic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irst button selects only what you assign it to select. It is automatically captured and placed on a new pag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cond button selects a FULL screen.  Not just the page but a complete full screen. It automatically was captured and place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third button selects only the page you are working on.  It captures it and automatically places it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999" t="10000" r="68752" b="78006"/>
          <a:stretch/>
        </p:blipFill>
        <p:spPr>
          <a:xfrm>
            <a:off x="6934320" y="1522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are there three capture too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would you need the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ras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ptions of levels of thicknes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le to erase on pe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rase on pages with a screen sho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bject area teacher can really benefit from this time saving tool, as he/she might teach multiple classes the same lesson.  Would only need to write your focus of the day once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9T16:31:15Z</dcterms:modified>
  <cp:revision>13</cp:revision>
  <dc:subject/>
  <dc:title>Interactive Tools to Enhance Instruction </dc:title>
</cp:coreProperties>
</file>